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3532-DEFE-4855-A764-BB3EFAE1E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lular component ontology also has a 3D interpretation…this can be made explicit by augmenting the cellular location ontology with clearly expressed relations of parthood, adjacency etc. These terms can also be ‘linked’ to a set of co-ordinates in an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91D-DA0C-49A4-801F-8341FB3F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012-0439-4E4C-97F3-C919FC5A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66E-C680-4C7C-A13C-6ED18491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B4E-83A8-41F9-9AC2-70FBCB31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61C-0675-4F96-BD3B-6D9FC39F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CE1-6883-4DBC-88A4-27D8AC33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66C-5711-45E2-AD52-206A4DB3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962-3C2D-49D9-8B6C-300144B3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75E-9FA1-4548-B61D-4028AF10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3F2-620D-40AC-9E26-E2D890B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095-9D5C-450F-8AC6-12E13F91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5AB-06C4-48C8-85C9-7C5B6693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B87C-D06E-4EF1-AD13-2ACC574377B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762120"/>
            <a:ext cx="7458120" cy="90360"/>
          </a:xfrm>
          <a:custGeom>
            <a:avLst/>
            <a:gdLst/>
            <a:ahLst/>
            <a:rect l="l" t="t" r="r" b="b"/>
            <a:pathLst>
              <a:path w="4753" h="1">
                <a:moveTo>
                  <a:pt x="0" y="0"/>
                </a:moveTo>
                <a:lnTo>
                  <a:pt x="4752" y="0"/>
                </a:lnTo>
                <a:lnTo>
                  <a:pt x="474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develo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grammar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for making productions using mf, bp, cl: 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derive a higher level grammar for next level of productions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derive a formal Annotation language?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mantically rich annotation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419800" cy="601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1328760"/>
            <a:ext cx="3505320" cy="2023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5867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5940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7086240" y="4038480"/>
            <a:ext cx="609840" cy="10666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66680"/>
              <a:gd name="textAreaBottom" fmla="*/ 1037160 h 1066680"/>
            </a:gdLst>
            <a:ahLst/>
            <a:rect l="textAreaLeft" t="textAreaTop" r="textAreaRight" b="textAreaBottom"/>
            <a:pathLst>
              <a:path w="21600" h="37771">
                <a:moveTo>
                  <a:pt x="3600" y="0"/>
                </a:moveTo>
                <a:arcTo wR="3600" hR="3600" stAng="16200000" swAng="-5400000"/>
                <a:lnTo>
                  <a:pt x="0" y="34171"/>
                </a:lnTo>
                <a:arcTo wR="3600" hR="3600" stAng="10800000" swAng="-5400000"/>
                <a:lnTo>
                  <a:pt x="18000" y="3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7049880" y="3465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4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ructure awarenes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: Create an iconic mapping for cl terms to facilitate novel analys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3D structure of the cell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8280" y="1219320"/>
            <a:ext cx="279720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60880" y="2330280"/>
            <a:ext cx="5730840" cy="429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ayoff: If we have iconic mapping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rowse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ontologies in an anatomy centered manner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Can use these new views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acilitating the annotation proces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i.e. improve curator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annotation tool interaction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Create new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visualizations for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terpreting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high dimensional dataset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ime course data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Integrating gene expression, protein expression and metabolomic dataset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skr</cp:lastModifiedBy>
  <dcterms:modified xsi:type="dcterms:W3CDTF">2005-11-04T05:15:02Z</dcterms:modified>
  <cp:revision>38</cp:revision>
  <dc:subject/>
  <dc:title>PowerPoint Presentation</dc:title>
</cp:coreProperties>
</file>